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91979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E4AF5-E754-4E2E-9562-1E85FB0C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A69EE-23CC-4B94-880C-26305619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FAC1A-5CD1-4028-ACFF-EE9E74A3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32A81-C046-4E0E-B8DC-6B2101C0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66C7-2B5B-47D5-AFB9-23BEBBCA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F6C1-A6CD-430C-9125-D0B25E29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06DF-D7BE-413F-990F-110CC7EA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9213-15C9-445C-9299-0ED934D1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06E9-B98B-4362-806B-8A0A85A4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C46D-E26A-49E8-BFA4-FE454FA2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1CD5-D156-4A3A-AF6B-28BC0EFC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7569D-FC11-4B21-BE90-6D5768A2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951D-771B-4EB9-8255-3F46A072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7909-3064-4444-999D-3C5B4B68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26AA-8689-45FF-9F72-D14F8085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7A4E-0E9D-4BCC-B6B8-ADBD85B3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BA83-3982-435F-8406-6F3516CD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6E616-63AE-4D1C-A077-E9AAA27D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DEFA-697B-448D-B350-798AF073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33EE9-6E3D-4209-8457-42D7F007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71B74-467D-4B41-B474-2ABB2489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CFD1C-0710-4A6B-A6F6-2DC57443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39825-1668-4118-8C97-C44CA4AC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90A53-166B-4E91-8D74-0154EA7D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07C0-075B-4887-9527-843D55C71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DB02-34B5-4414-92F7-6BCBAA3558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57200" y="122184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lide illustrates the use of the gradient map to expand the visibility of the image detail that is other-wise hidden in the dark and the bright a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utilizes one of the LUTs that is provided, which was designed for that ta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6"/>
          <p:cNvSpPr/>
          <p:nvPr/>
        </p:nvSpPr>
        <p:spPr>
          <a:xfrm>
            <a:off x="84600" y="184320"/>
            <a:ext cx="35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3a4"/>
                </a:solidFill>
                <a:latin typeface="Arial"/>
              </a:rPr>
              <a:t>On-Line Journal Imag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3924000" y="268200"/>
            <a:ext cx="43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3a4"/>
                </a:solidFill>
                <a:latin typeface="Arial"/>
              </a:rPr>
              <a:t>Visualize with Gradient Map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24"/>
          <p:cNvSpPr/>
          <p:nvPr/>
        </p:nvSpPr>
        <p:spPr>
          <a:xfrm>
            <a:off x="7964280" y="0"/>
            <a:ext cx="1181880" cy="3682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Metho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8" name="Object 27"/>
          <p:cNvGraphicFramePr/>
          <p:nvPr/>
        </p:nvGraphicFramePr>
        <p:xfrm>
          <a:off x="320760" y="933480"/>
          <a:ext cx="2606760" cy="50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933480"/>
                    <a:ext cx="2606760" cy="50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0" name="Group 29"/>
          <p:cNvGrpSpPr/>
          <p:nvPr/>
        </p:nvGrpSpPr>
        <p:grpSpPr>
          <a:xfrm>
            <a:off x="2824200" y="838080"/>
            <a:ext cx="3022560" cy="5691240"/>
            <a:chOff x="2824200" y="838080"/>
            <a:chExt cx="3022560" cy="5691240"/>
          </a:xfrm>
        </p:grpSpPr>
        <p:sp>
          <p:nvSpPr>
            <p:cNvPr id="521" name="Text Box 19"/>
            <p:cNvSpPr/>
            <p:nvPr/>
          </p:nvSpPr>
          <p:spPr>
            <a:xfrm>
              <a:off x="3307320" y="616104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map Intensitie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2" name="Object 28"/>
            <p:cNvGraphicFramePr/>
            <p:nvPr/>
          </p:nvGraphicFramePr>
          <p:xfrm>
            <a:off x="2824200" y="838080"/>
            <a:ext cx="3022560" cy="524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3" name="Object 2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24200" y="838080"/>
                      <a:ext cx="3022560" cy="524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24" name="Group 31"/>
          <p:cNvGrpSpPr/>
          <p:nvPr/>
        </p:nvGrpSpPr>
        <p:grpSpPr>
          <a:xfrm>
            <a:off x="5759280" y="716040"/>
            <a:ext cx="3114720" cy="6100560"/>
            <a:chOff x="5759280" y="716040"/>
            <a:chExt cx="3114720" cy="6100560"/>
          </a:xfrm>
        </p:grpSpPr>
        <p:sp>
          <p:nvSpPr>
            <p:cNvPr id="525" name="Text Box 21"/>
            <p:cNvSpPr/>
            <p:nvPr/>
          </p:nvSpPr>
          <p:spPr>
            <a:xfrm>
              <a:off x="6371640" y="6448320"/>
              <a:ext cx="194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False-Colo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6" name="Object 30"/>
            <p:cNvGraphicFramePr/>
            <p:nvPr/>
          </p:nvGraphicFramePr>
          <p:xfrm>
            <a:off x="5759280" y="716040"/>
            <a:ext cx="3114720" cy="5591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27" name="Object 3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59280" y="716040"/>
                      <a:ext cx="3114720" cy="559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14:28:19Z</dcterms:created>
  <dc:creator>John Krueger, DIO/ORI/DHHS</dc:creator>
  <dc:description/>
  <dc:language>en-US</dc:language>
  <cp:lastModifiedBy>John Krueger</cp:lastModifiedBy>
  <dcterms:modified xsi:type="dcterms:W3CDTF">2011-12-13T16:45:59Z</dcterms:modified>
  <cp:revision>199</cp:revision>
  <dc:subject/>
  <dc:title>Principles in  Forensic Image Processing for Science</dc:title>
</cp:coreProperties>
</file>