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91979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F7930-8819-4B41-8D0A-4E1FDD92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0A5B-2D14-4CC8-920D-41AB7E1E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05C7-FBD5-416C-8546-C2CC559F6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2EC81-40C5-4627-A1D3-5D9CF3F8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D0B0-B63D-49DF-AF58-56FCE57A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3016-7BE6-4ED3-B1DB-90ABB583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9930-EA2D-4D61-9AD4-FF246361A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94E63-6249-4FDA-8096-6A955CB8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DBCA-0F15-4548-BF4F-DBED542F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7B42-C8D5-40FF-B326-F673E933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833F-7DA7-4D70-AFC7-B864A623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0E609-B368-4057-B62D-F655F5A9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28B5E-1D18-4F3E-A23D-5C2845B7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6582-530B-4830-819E-FF42EE05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EFF8-C5FD-4F4C-AB1E-9ECA0B9B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FDC1-7654-4CF2-AABA-D01CF675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D2F1-BE67-45AA-98BE-BDD83CB29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A4E2-28EE-42AF-A209-8E0069AE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F95AA-1C5E-4A04-A188-DEFCCAAA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B12F1-6334-4BAE-BEBD-972CB318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33C9C-0D77-4FE8-9D42-3E5C23A9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2D3A4-E3D3-4D1D-AC8E-0B7429A0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56B0-A957-4D64-BDA6-299AA949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D171-091F-4DA4-B41C-ADA6596E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8919-B826-485E-A681-6C7176935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D86D-762E-48E0-95F7-DFC8514139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122184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ide illustrates the use of the gradient map to expand the visibility of the image detail that is other-wise hidden in the dark and the bright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utilizes one of the LUTs that is provided, which was designed for that tas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6"/>
          <p:cNvSpPr/>
          <p:nvPr/>
        </p:nvSpPr>
        <p:spPr>
          <a:xfrm>
            <a:off x="84600" y="184320"/>
            <a:ext cx="35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3a4"/>
                </a:solidFill>
                <a:latin typeface="Arial"/>
              </a:rPr>
              <a:t>On-Line Journal Imag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7"/>
          <p:cNvSpPr/>
          <p:nvPr/>
        </p:nvSpPr>
        <p:spPr>
          <a:xfrm>
            <a:off x="3924000" y="26820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3a4"/>
                </a:solidFill>
                <a:latin typeface="Arial"/>
              </a:rPr>
              <a:t>Visualize with Gradient Map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24"/>
          <p:cNvSpPr/>
          <p:nvPr/>
        </p:nvSpPr>
        <p:spPr>
          <a:xfrm>
            <a:off x="7964280" y="0"/>
            <a:ext cx="1181880" cy="3682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Metho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27"/>
          <p:cNvGraphicFramePr/>
          <p:nvPr/>
        </p:nvGraphicFramePr>
        <p:xfrm>
          <a:off x="320760" y="933480"/>
          <a:ext cx="2606760" cy="50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933480"/>
                    <a:ext cx="2606760" cy="50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0" name="Group 29"/>
          <p:cNvGrpSpPr/>
          <p:nvPr/>
        </p:nvGrpSpPr>
        <p:grpSpPr>
          <a:xfrm>
            <a:off x="2824200" y="838080"/>
            <a:ext cx="3022560" cy="5691240"/>
            <a:chOff x="2824200" y="838080"/>
            <a:chExt cx="3022560" cy="5691240"/>
          </a:xfrm>
        </p:grpSpPr>
        <p:sp>
          <p:nvSpPr>
            <p:cNvPr id="521" name="Text Box 19"/>
            <p:cNvSpPr/>
            <p:nvPr/>
          </p:nvSpPr>
          <p:spPr>
            <a:xfrm>
              <a:off x="3307320" y="6161040"/>
              <a:ext cx="213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Remap Intensities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2" name="Object 28"/>
            <p:cNvGraphicFramePr/>
            <p:nvPr/>
          </p:nvGraphicFramePr>
          <p:xfrm>
            <a:off x="2824200" y="838080"/>
            <a:ext cx="3022560" cy="5245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23" name="Object 2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24200" y="838080"/>
                      <a:ext cx="3022560" cy="5245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4" name="Group 31"/>
          <p:cNvGrpSpPr/>
          <p:nvPr/>
        </p:nvGrpSpPr>
        <p:grpSpPr>
          <a:xfrm>
            <a:off x="5759280" y="716040"/>
            <a:ext cx="3114720" cy="6100560"/>
            <a:chOff x="5759280" y="716040"/>
            <a:chExt cx="3114720" cy="6100560"/>
          </a:xfrm>
        </p:grpSpPr>
        <p:sp>
          <p:nvSpPr>
            <p:cNvPr id="525" name="Text Box 21"/>
            <p:cNvSpPr/>
            <p:nvPr/>
          </p:nvSpPr>
          <p:spPr>
            <a:xfrm>
              <a:off x="6371640" y="6448320"/>
              <a:ext cx="194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False-Color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26" name="Object 30"/>
            <p:cNvGraphicFramePr/>
            <p:nvPr/>
          </p:nvGraphicFramePr>
          <p:xfrm>
            <a:off x="5759280" y="716040"/>
            <a:ext cx="3114720" cy="5591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27" name="Object 3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59280" y="716040"/>
                      <a:ext cx="3114720" cy="5591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14:28:19Z</dcterms:created>
  <dc:creator>John Krueger, DIO/ORI/DHHS</dc:creator>
  <dc:description/>
  <dc:language>en-US</dc:language>
  <cp:lastModifiedBy>John Krueger</cp:lastModifiedBy>
  <dcterms:modified xsi:type="dcterms:W3CDTF">2011-12-13T16:45:59Z</dcterms:modified>
  <cp:revision>199</cp:revision>
  <dc:subject/>
  <dc:title>Principles in  Forensic Image Processing for Science</dc:title>
</cp:coreProperties>
</file>