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7291-0F67-4244-B50C-B168AA2F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70CF-CB57-40CF-AF3E-C6B5D777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DB4D-AD35-4468-91F1-D7BA41CA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4BA0-866D-40F7-B444-66FF248E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E83D-4BE6-48CE-9531-80FE6B24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6DB2-F068-4CE5-9966-45E48630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A1DE-6944-4657-882C-92A16204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66FA-6A6C-4DA5-9A93-0A0D1F51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725B-B4AB-445F-9774-93AFEC59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67FE-D343-45C5-9AAC-4F563ECA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EB6A-7B7B-4A86-8195-07E5939B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CD6E-75C3-49EF-9519-5F2CBEF6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8C64-343A-4797-A3F0-6E65DC3C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F6D7-206E-43DF-BB59-7ACFE52E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882C-4D13-47A4-91F9-0B043A3C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6986-9550-44E1-905F-497D2AF0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50D1-1B3A-44D8-8FD4-C53A1B1F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2407-30F0-4788-BE21-B014A5E8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14D9-E345-4D85-9DD6-96CA5B5A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A8F9-271F-4ED3-8634-FF1D3DA7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0F57-7154-41FB-9E2D-012B0359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BC9A-5ED0-4142-A6C8-2B5AD6A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D186-94A6-4C1B-9FFB-EA5345F8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824E-40CF-4C13-AF77-B433CCB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2DCE-2566-4979-BA77-73967C69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9B63-9BBE-4C36-A0E8-710C6C741A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12218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ide illustrates the use of the gradient map to expand the visibility of the image detail that is other-wise hidden in the dark and the bright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utilizes one of the LUTs that is provided, which was designed for that t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84600" y="18432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3a4"/>
                </a:solidFill>
                <a:latin typeface="Arial"/>
              </a:rPr>
              <a:t>On-Line Journal Imag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3924000" y="2682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3a4"/>
                </a:solidFill>
                <a:latin typeface="Arial"/>
              </a:rPr>
              <a:t>Visualize with Gradient Ma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7964280" y="0"/>
            <a:ext cx="1181880" cy="368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Metho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27"/>
          <p:cNvGraphicFramePr/>
          <p:nvPr/>
        </p:nvGraphicFramePr>
        <p:xfrm>
          <a:off x="320760" y="933480"/>
          <a:ext cx="2606760" cy="50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33480"/>
                    <a:ext cx="260676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0" name="Group 29"/>
          <p:cNvGrpSpPr/>
          <p:nvPr/>
        </p:nvGrpSpPr>
        <p:grpSpPr>
          <a:xfrm>
            <a:off x="2824200" y="838080"/>
            <a:ext cx="3022560" cy="5691240"/>
            <a:chOff x="2824200" y="838080"/>
            <a:chExt cx="3022560" cy="5691240"/>
          </a:xfrm>
        </p:grpSpPr>
        <p:sp>
          <p:nvSpPr>
            <p:cNvPr id="521" name="Text Box 19"/>
            <p:cNvSpPr/>
            <p:nvPr/>
          </p:nvSpPr>
          <p:spPr>
            <a:xfrm>
              <a:off x="3307320" y="616104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map Intensitie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28"/>
            <p:cNvGraphicFramePr/>
            <p:nvPr/>
          </p:nvGraphicFramePr>
          <p:xfrm>
            <a:off x="2824200" y="838080"/>
            <a:ext cx="3022560" cy="524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24200" y="838080"/>
                      <a:ext cx="302256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4" name="Group 31"/>
          <p:cNvGrpSpPr/>
          <p:nvPr/>
        </p:nvGrpSpPr>
        <p:grpSpPr>
          <a:xfrm>
            <a:off x="5759280" y="716040"/>
            <a:ext cx="3114720" cy="6100560"/>
            <a:chOff x="5759280" y="716040"/>
            <a:chExt cx="3114720" cy="6100560"/>
          </a:xfrm>
        </p:grpSpPr>
        <p:sp>
          <p:nvSpPr>
            <p:cNvPr id="525" name="Text Box 21"/>
            <p:cNvSpPr/>
            <p:nvPr/>
          </p:nvSpPr>
          <p:spPr>
            <a:xfrm>
              <a:off x="6371640" y="6448320"/>
              <a:ext cx="194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False-Col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6" name="Object 30"/>
            <p:cNvGraphicFramePr/>
            <p:nvPr/>
          </p:nvGraphicFramePr>
          <p:xfrm>
            <a:off x="5759280" y="716040"/>
            <a:ext cx="3114720" cy="5591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7" name="Object 3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59280" y="716040"/>
                      <a:ext cx="3114720" cy="559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4:28:19Z</dcterms:created>
  <dc:creator>John Krueger, DIO/ORI/DHHS</dc:creator>
  <dc:description/>
  <dc:language>en-US</dc:language>
  <cp:lastModifiedBy>John Krueger</cp:lastModifiedBy>
  <dcterms:modified xsi:type="dcterms:W3CDTF">2011-12-13T16:45:59Z</dcterms:modified>
  <cp:revision>199</cp:revision>
  <dc:subject/>
  <dc:title>Principles in  Forensic Image Processing for Science</dc:title>
</cp:coreProperties>
</file>